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Click to move the slide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AAB-46D4-4065-BBD5-33AACC06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667A-2EEA-4956-852D-87C273FE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8641-964C-49DC-A5FC-81CEC5BB7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6D2C-E527-4A74-B333-FB00ABC4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1A3B-4E82-4301-8108-1EB39166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D582-F085-48C9-93FC-4733A1EA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D187-DE61-48B0-AF9D-B8B5907E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7D2A-674C-4ABF-8ECF-8AF25C18C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C3F9-8931-41B7-8AFD-2380346E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EDE-2EF1-4710-815C-A1DD4EE2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924-58A4-414A-8EF0-0A8C783C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C991D-D06B-46B6-BCFF-21C58FB7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87EE3-3320-4502-8ECE-513BCB42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FF6C3-7542-4F6E-AC80-7A7EDEA9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DBF6C-E72B-48E0-9C0E-7CC574ED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CCE47-9BD7-43B8-9BD6-4CAEDC60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34F07-DFED-4A8C-91D4-E9E4B203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54371-C9A4-4395-B80F-3CF3FCDB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21B23-DC6C-4AB6-8123-5081D90C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61EEC-1CBD-48F8-9946-B30469EC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64C-6717-4DB3-956B-2A63BA2A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4E2-52BE-4056-AD1E-B454FF2C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62E7-0089-4F59-8FF8-AFFC50AC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04CB-F488-438E-A9EF-65120345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BC7D-7A23-4138-80E5-184CFF8D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49C5-44C6-4E14-8B40-EC0EE67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7C2E-91BF-4F5D-92E6-3A345771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53EC-95B8-4DB3-B192-571A0AFC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0850-2127-483D-BDEC-2D4838E1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966-E1BC-4611-BAF7-018B31FE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FEEC-8E6B-4F14-8401-C4724807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C15E-5BF5-403C-A34E-7C802740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06E9-F55E-4EC8-AB59-2C9EBCFC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E9D6-73FD-47A6-AB16-5BB62121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45BE-EDE2-48FA-9CDE-5E600C10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5FE7-C5BD-49EF-900B-A85594CE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CB25-CDA2-49DC-9828-52EE9FF3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5531-FED9-4E4C-9BFE-EEC6000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6500-EEF5-41AE-8BD4-C7367DF1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672D-43E9-49DE-A13B-8E40EE6F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E19-2B10-4680-B7A0-07411B37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E360-C848-4602-B7CD-A94BAA53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96C37-D78A-490B-A7FE-2F0B59A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EEFD-29FB-426F-B5B2-7CB290F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8EF1-ABB7-4830-96A5-DDAADA5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C8F3-95E3-4E13-9DE0-974EEFBD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BB4E-0DAF-4CC2-9AB4-7F1107AF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D528-AB55-4988-983C-47AF238B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7F47-07F6-45CD-9472-BD8EA769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6A172-A92E-49B6-AD03-576F9739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D60D-4A92-49A5-9917-E9B7BE6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137-8063-4BAF-B4C0-137728A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F1961-3980-456C-ADCB-40F96075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94945-B792-41C6-872C-402BE5DD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4F6D-9C61-4B64-858E-4FB524EF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1624-0F14-4140-AE69-5C4F8551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A4A8-912B-4D60-9615-5F57342E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700B-859F-4BA1-9B9F-D20EBCE5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4FBC-E072-43FE-A7BF-0A544F63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285D-D6B3-471C-857F-3D81C0F5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6E80E-8C65-412C-B70C-BF9D081D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D6325-052D-45EC-9158-270518BF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642-343F-4BB2-B168-A6EED28C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8F73D-7C6C-4167-9426-4532FF88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EE1B3-7724-4253-A684-589389E0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950E-051F-41CC-BD87-23D71A6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DDB8-B15C-4DFE-B13A-B32E1C1D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23AAF-D446-4634-AFD5-9BC787AB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77A45-2703-4909-B6BD-05C51BB6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883C4-0499-4B64-BCDC-098CD43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08372-EA7B-4B92-9918-A7A1C7D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2172F-FA46-4531-BA6F-8E42CEB8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F30A-7EF6-4753-AA8B-7642A58C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787-D3B4-47F0-A9D6-A095F76C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3A85-EDAD-4520-949A-2919FC2D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2A2E0-4F70-451B-BE7E-F1236828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0018C-1F1E-4B92-B45C-D7D8085F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5701-4098-4898-946A-A5B61389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48A1B-BBB4-4313-B372-4C8F8F2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0420-ED9E-43E4-877C-50F81CB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3EC30-9961-4101-ACEC-EBFDD2E7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108D-33E2-44EC-80D1-E9C130D4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71185-F9E5-4183-8D32-9A0C67C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9DD3B-6366-4CA2-8104-CE811B9D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10D-9906-4488-836D-E0DB8AF5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2FCB-22EF-43ED-81F3-7DF42132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3EE5-F3F8-4A4A-9A6F-3AF3055B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B8125-2966-4256-B433-966DF6D8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87BA9-0CAC-4803-BDB0-AD36906D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EE20E-E7DB-452C-8BD1-E7EF6531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2877F-C150-423D-A9CB-FE019706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58168-1E93-400D-A62E-942D57EB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90FD9-E5FC-4617-97B3-1DA26328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801C-6F76-4FC1-897C-0B1333BF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E405-0E59-45F5-BCF1-1A1CCB7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04B-4FCB-4D9F-BD6A-42252C1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EA3EF-76E7-454D-A3D3-69E77A4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83F0-05E0-435E-A8B9-FA8DD0E7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7DCCD-FB42-4D6C-95EA-A692CB45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93943-1499-47AF-89DA-79A770B0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242E6-8098-4455-BD1B-4E5F89DA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B9B6F-C002-4791-B2C2-1977E76D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C972C-C08D-4C59-B03B-F5CFB75D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F1D06-44BC-41AB-B297-6008AD18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507E4-37A9-49EA-87A2-D9F37C7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0DFFF-C44F-47BE-8C99-624803A7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657-0C9D-4B03-92C8-3DF9929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8106B-8159-4C1F-8FA5-FDE8D656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7C37-E6EF-4C0A-8140-DD4D65AB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1EB57-99D1-458C-B6CC-3D5C00A7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87064-5647-4C6A-848E-92B39431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C1E48-5475-43C4-97CB-D2D1486A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5F058-B9A4-4ACA-9C8A-F48B91FF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8492A-E458-46D0-B0AE-1B475F09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1EE21-92F2-44F4-9F96-C57E9436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8F625-EB26-4AD0-829D-9A4AE7C5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09C9F-3C3B-49A7-B58E-25F35F9A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Click to edit the title text format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7D75-5758-467D-9160-4711BF60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1B0-E084-4D33-974E-C11BBB657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C6CB-9F8A-46A3-838B-0CAF7517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6FF8-36D5-4B27-8B22-5B15376D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1814-97AC-47CB-BBC6-CFEE2D681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7474-4324-4081-A6F2-E14F9A4E4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F09D-B75F-4E89-9EAE-507E18B8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28B1-A1DD-4DA8-83DD-8C4A887E4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1B53-0BA2-4AB1-A046-7700C69C1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2.3: Linear Equation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Objective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basic terminology related to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linear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inear equations symbol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inear equations graphically and nume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intermediate valu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problems involving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problem-solv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Vocabular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: a statement that two mathematical expressions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 find all values that would make the equation true (these are solutions, they satisfy the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equations: equations with the same solu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ion: an equation with no possibl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: a equation that is only solved by some values for th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325"/>
          <p:cNvSpPr/>
          <p:nvPr/>
        </p:nvSpPr>
        <p:spPr>
          <a:xfrm>
            <a:off x="7512120" y="3943440"/>
            <a:ext cx="23184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326"/>
          <p:cNvSpPr/>
          <p:nvPr/>
        </p:nvSpPr>
        <p:spPr>
          <a:xfrm>
            <a:off x="7508880" y="3943440"/>
            <a:ext cx="27468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327"/>
          <p:cNvSpPr/>
          <p:nvPr/>
        </p:nvSpPr>
        <p:spPr>
          <a:xfrm>
            <a:off x="7864560" y="4011480"/>
            <a:ext cx="15876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328"/>
          <p:cNvSpPr/>
          <p:nvPr/>
        </p:nvSpPr>
        <p:spPr>
          <a:xfrm>
            <a:off x="7840800" y="4000680"/>
            <a:ext cx="1951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329"/>
          <p:cNvSpPr/>
          <p:nvPr/>
        </p:nvSpPr>
        <p:spPr>
          <a:xfrm>
            <a:off x="8150400" y="4103640"/>
            <a:ext cx="2880" cy="360"/>
          </a:xfrm>
          <a:prstGeom prst="pie">
            <a:avLst/>
          </a:prstGeom>
          <a:solidFill>
            <a:srgbClr val="0080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330"/>
          <p:cNvSpPr/>
          <p:nvPr/>
        </p:nvSpPr>
        <p:spPr>
          <a:xfrm>
            <a:off x="8150400" y="4094280"/>
            <a:ext cx="158400" cy="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331"/>
          <p:cNvSpPr/>
          <p:nvPr/>
        </p:nvSpPr>
        <p:spPr>
          <a:xfrm>
            <a:off x="8389800" y="3921120"/>
            <a:ext cx="1116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332"/>
          <p:cNvSpPr/>
          <p:nvPr/>
        </p:nvSpPr>
        <p:spPr>
          <a:xfrm>
            <a:off x="8583480" y="4051440"/>
            <a:ext cx="138240" cy="6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333"/>
          <p:cNvSpPr/>
          <p:nvPr/>
        </p:nvSpPr>
        <p:spPr>
          <a:xfrm>
            <a:off x="8572680" y="4125960"/>
            <a:ext cx="1825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334"/>
          <p:cNvSpPr/>
          <p:nvPr/>
        </p:nvSpPr>
        <p:spPr>
          <a:xfrm>
            <a:off x="8104320" y="4400640"/>
            <a:ext cx="1936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335"/>
          <p:cNvSpPr/>
          <p:nvPr/>
        </p:nvSpPr>
        <p:spPr>
          <a:xfrm>
            <a:off x="8400960" y="4422600"/>
            <a:ext cx="114480" cy="17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336"/>
          <p:cNvSpPr/>
          <p:nvPr/>
        </p:nvSpPr>
        <p:spPr>
          <a:xfrm>
            <a:off x="8389800" y="4378320"/>
            <a:ext cx="1476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337"/>
          <p:cNvSpPr/>
          <p:nvPr/>
        </p:nvSpPr>
        <p:spPr>
          <a:xfrm>
            <a:off x="8640720" y="4435560"/>
            <a:ext cx="1252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338"/>
          <p:cNvSpPr/>
          <p:nvPr/>
        </p:nvSpPr>
        <p:spPr>
          <a:xfrm>
            <a:off x="8686800" y="4343400"/>
            <a:ext cx="3492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339"/>
          <p:cNvSpPr/>
          <p:nvPr/>
        </p:nvSpPr>
        <p:spPr>
          <a:xfrm>
            <a:off x="8858160" y="4264200"/>
            <a:ext cx="1717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340"/>
          <p:cNvSpPr/>
          <p:nvPr/>
        </p:nvSpPr>
        <p:spPr>
          <a:xfrm>
            <a:off x="5807160" y="5464080"/>
            <a:ext cx="2397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341"/>
          <p:cNvSpPr/>
          <p:nvPr/>
        </p:nvSpPr>
        <p:spPr>
          <a:xfrm>
            <a:off x="6068880" y="5440320"/>
            <a:ext cx="13824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342"/>
          <p:cNvSpPr/>
          <p:nvPr/>
        </p:nvSpPr>
        <p:spPr>
          <a:xfrm>
            <a:off x="6080040" y="5440320"/>
            <a:ext cx="13824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343"/>
          <p:cNvSpPr/>
          <p:nvPr/>
        </p:nvSpPr>
        <p:spPr>
          <a:xfrm>
            <a:off x="6378480" y="5475240"/>
            <a:ext cx="1717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344"/>
          <p:cNvSpPr/>
          <p:nvPr/>
        </p:nvSpPr>
        <p:spPr>
          <a:xfrm>
            <a:off x="6378480" y="5521320"/>
            <a:ext cx="1936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345"/>
          <p:cNvSpPr/>
          <p:nvPr/>
        </p:nvSpPr>
        <p:spPr>
          <a:xfrm>
            <a:off x="6675480" y="5408640"/>
            <a:ext cx="17136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346"/>
          <p:cNvSpPr/>
          <p:nvPr/>
        </p:nvSpPr>
        <p:spPr>
          <a:xfrm>
            <a:off x="6835680" y="5486400"/>
            <a:ext cx="15876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347"/>
          <p:cNvSpPr/>
          <p:nvPr/>
        </p:nvSpPr>
        <p:spPr>
          <a:xfrm>
            <a:off x="6858000" y="5440320"/>
            <a:ext cx="11448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Linear equation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equation in one variable that can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+b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306"/>
          <p:cNvSpPr/>
          <p:nvPr/>
        </p:nvSpPr>
        <p:spPr>
          <a:xfrm>
            <a:off x="5121360" y="2652840"/>
            <a:ext cx="353880" cy="49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307"/>
          <p:cNvSpPr/>
          <p:nvPr/>
        </p:nvSpPr>
        <p:spPr>
          <a:xfrm>
            <a:off x="5554800" y="2811600"/>
            <a:ext cx="30960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308"/>
          <p:cNvSpPr/>
          <p:nvPr/>
        </p:nvSpPr>
        <p:spPr>
          <a:xfrm>
            <a:off x="5611680" y="2811600"/>
            <a:ext cx="27468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309"/>
          <p:cNvSpPr/>
          <p:nvPr/>
        </p:nvSpPr>
        <p:spPr>
          <a:xfrm>
            <a:off x="6161040" y="2879640"/>
            <a:ext cx="3412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310"/>
          <p:cNvSpPr/>
          <p:nvPr/>
        </p:nvSpPr>
        <p:spPr>
          <a:xfrm>
            <a:off x="6216480" y="3006720"/>
            <a:ext cx="3096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311"/>
          <p:cNvSpPr/>
          <p:nvPr/>
        </p:nvSpPr>
        <p:spPr>
          <a:xfrm>
            <a:off x="6897600" y="2583000"/>
            <a:ext cx="347760" cy="582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312"/>
          <p:cNvSpPr/>
          <p:nvPr/>
        </p:nvSpPr>
        <p:spPr>
          <a:xfrm>
            <a:off x="6618240" y="3532320"/>
            <a:ext cx="2174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313"/>
          <p:cNvSpPr/>
          <p:nvPr/>
        </p:nvSpPr>
        <p:spPr>
          <a:xfrm>
            <a:off x="7051680" y="3303720"/>
            <a:ext cx="27144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314"/>
          <p:cNvSpPr/>
          <p:nvPr/>
        </p:nvSpPr>
        <p:spPr>
          <a:xfrm>
            <a:off x="5315040" y="3600360"/>
            <a:ext cx="228600" cy="2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315"/>
          <p:cNvSpPr/>
          <p:nvPr/>
        </p:nvSpPr>
        <p:spPr>
          <a:xfrm>
            <a:off x="5761080" y="3279600"/>
            <a:ext cx="28404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316"/>
          <p:cNvSpPr/>
          <p:nvPr/>
        </p:nvSpPr>
        <p:spPr>
          <a:xfrm>
            <a:off x="4594320" y="3979800"/>
            <a:ext cx="285480" cy="660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317"/>
          <p:cNvSpPr/>
          <p:nvPr/>
        </p:nvSpPr>
        <p:spPr>
          <a:xfrm>
            <a:off x="5018040" y="4206960"/>
            <a:ext cx="34308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318"/>
          <p:cNvSpPr/>
          <p:nvPr/>
        </p:nvSpPr>
        <p:spPr>
          <a:xfrm>
            <a:off x="5064120" y="4137120"/>
            <a:ext cx="29700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319"/>
          <p:cNvSpPr/>
          <p:nvPr/>
        </p:nvSpPr>
        <p:spPr>
          <a:xfrm>
            <a:off x="5051520" y="4583160"/>
            <a:ext cx="4680" cy="360"/>
          </a:xfrm>
          <a:prstGeom prst="pie">
            <a:avLst/>
          </a:prstGeom>
          <a:solidFill>
            <a:srgbClr val="0080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320"/>
          <p:cNvSpPr/>
          <p:nvPr/>
        </p:nvSpPr>
        <p:spPr>
          <a:xfrm>
            <a:off x="5521320" y="4206960"/>
            <a:ext cx="2728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321"/>
          <p:cNvSpPr/>
          <p:nvPr/>
        </p:nvSpPr>
        <p:spPr>
          <a:xfrm>
            <a:off x="6024600" y="3932280"/>
            <a:ext cx="284040" cy="49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322"/>
          <p:cNvSpPr/>
          <p:nvPr/>
        </p:nvSpPr>
        <p:spPr>
          <a:xfrm>
            <a:off x="6697800" y="4057560"/>
            <a:ext cx="3204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323"/>
          <p:cNvSpPr/>
          <p:nvPr/>
        </p:nvSpPr>
        <p:spPr>
          <a:xfrm>
            <a:off x="6721560" y="4137120"/>
            <a:ext cx="2509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324"/>
          <p:cNvSpPr/>
          <p:nvPr/>
        </p:nvSpPr>
        <p:spPr>
          <a:xfrm>
            <a:off x="7201080" y="3911760"/>
            <a:ext cx="317160" cy="403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Properties of equalit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property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, b, and c are real numbers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b th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c=b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property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, b, and c are real numbers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b th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=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300"/>
          <p:cNvSpPr/>
          <p:nvPr/>
        </p:nvSpPr>
        <p:spPr>
          <a:xfrm>
            <a:off x="4437000" y="2766960"/>
            <a:ext cx="260280" cy="319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301"/>
          <p:cNvSpPr/>
          <p:nvPr/>
        </p:nvSpPr>
        <p:spPr>
          <a:xfrm>
            <a:off x="4794120" y="2759040"/>
            <a:ext cx="255600" cy="26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302"/>
          <p:cNvSpPr/>
          <p:nvPr/>
        </p:nvSpPr>
        <p:spPr>
          <a:xfrm>
            <a:off x="5268960" y="2800440"/>
            <a:ext cx="2286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303"/>
          <p:cNvSpPr/>
          <p:nvPr/>
        </p:nvSpPr>
        <p:spPr>
          <a:xfrm>
            <a:off x="5268960" y="2892600"/>
            <a:ext cx="26352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304"/>
          <p:cNvSpPr/>
          <p:nvPr/>
        </p:nvSpPr>
        <p:spPr>
          <a:xfrm>
            <a:off x="5715000" y="2720880"/>
            <a:ext cx="27288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305"/>
          <p:cNvSpPr/>
          <p:nvPr/>
        </p:nvSpPr>
        <p:spPr>
          <a:xfrm>
            <a:off x="6058080" y="2639880"/>
            <a:ext cx="171360" cy="1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Ways to solve linear equation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2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basic graph2"/>
          <p:cNvPicPr/>
          <p:nvPr/>
        </p:nvPicPr>
        <p:blipFill>
          <a:blip r:embed="rId1"/>
          <a:stretch/>
        </p:blipFill>
        <p:spPr>
          <a:xfrm>
            <a:off x="5715000" y="3809880"/>
            <a:ext cx="2200320" cy="2257560"/>
          </a:xfrm>
          <a:prstGeom prst="rect">
            <a:avLst/>
          </a:prstGeom>
          <a:ln w="0">
            <a:noFill/>
          </a:ln>
        </p:spPr>
      </p:pic>
      <p:sp>
        <p:nvSpPr>
          <p:cNvPr id="437" name="SMARTPenAnnotation288"/>
          <p:cNvSpPr/>
          <p:nvPr/>
        </p:nvSpPr>
        <p:spPr>
          <a:xfrm>
            <a:off x="1339920" y="3257640"/>
            <a:ext cx="1842840" cy="77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289"/>
          <p:cNvSpPr/>
          <p:nvPr/>
        </p:nvSpPr>
        <p:spPr>
          <a:xfrm>
            <a:off x="3121200" y="3457440"/>
            <a:ext cx="2215800" cy="23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290"/>
          <p:cNvSpPr/>
          <p:nvPr/>
        </p:nvSpPr>
        <p:spPr>
          <a:xfrm>
            <a:off x="5154480" y="3371760"/>
            <a:ext cx="352440" cy="461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291"/>
          <p:cNvSpPr/>
          <p:nvPr/>
        </p:nvSpPr>
        <p:spPr>
          <a:xfrm>
            <a:off x="6024600" y="5159520"/>
            <a:ext cx="68400" cy="87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292"/>
          <p:cNvSpPr/>
          <p:nvPr/>
        </p:nvSpPr>
        <p:spPr>
          <a:xfrm>
            <a:off x="6208560" y="4800600"/>
            <a:ext cx="4284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293"/>
          <p:cNvSpPr/>
          <p:nvPr/>
        </p:nvSpPr>
        <p:spPr>
          <a:xfrm>
            <a:off x="6411960" y="4468680"/>
            <a:ext cx="1116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294"/>
          <p:cNvSpPr/>
          <p:nvPr/>
        </p:nvSpPr>
        <p:spPr>
          <a:xfrm>
            <a:off x="6400800" y="4449600"/>
            <a:ext cx="44280" cy="71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295"/>
          <p:cNvSpPr/>
          <p:nvPr/>
        </p:nvSpPr>
        <p:spPr>
          <a:xfrm>
            <a:off x="6583320" y="4079880"/>
            <a:ext cx="4608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296"/>
          <p:cNvSpPr/>
          <p:nvPr/>
        </p:nvSpPr>
        <p:spPr>
          <a:xfrm>
            <a:off x="5886360" y="3817800"/>
            <a:ext cx="949320" cy="167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297"/>
          <p:cNvSpPr/>
          <p:nvPr/>
        </p:nvSpPr>
        <p:spPr>
          <a:xfrm>
            <a:off x="2571840" y="3852720"/>
            <a:ext cx="296640" cy="5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298"/>
          <p:cNvSpPr/>
          <p:nvPr/>
        </p:nvSpPr>
        <p:spPr>
          <a:xfrm>
            <a:off x="5840280" y="4457880"/>
            <a:ext cx="2183040" cy="45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299"/>
          <p:cNvSpPr/>
          <p:nvPr/>
        </p:nvSpPr>
        <p:spPr>
          <a:xfrm>
            <a:off x="6367320" y="4435560"/>
            <a:ext cx="95400" cy="101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Intermediate value propert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ints on continuous function, then it is assumed that the points between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art of the range for this function, if the domain is between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basic graph2"/>
          <p:cNvPicPr/>
          <p:nvPr/>
        </p:nvPicPr>
        <p:blipFill>
          <a:blip r:embed="rId1"/>
          <a:stretch/>
        </p:blipFill>
        <p:spPr>
          <a:xfrm>
            <a:off x="5715000" y="3809880"/>
            <a:ext cx="2200320" cy="2257560"/>
          </a:xfrm>
          <a:prstGeom prst="rect">
            <a:avLst/>
          </a:prstGeom>
          <a:ln w="0">
            <a:noFill/>
          </a:ln>
        </p:spPr>
      </p:pic>
      <p:sp>
        <p:nvSpPr>
          <p:cNvPr id="452" name="SMARTPenAnnotation276"/>
          <p:cNvSpPr/>
          <p:nvPr/>
        </p:nvSpPr>
        <p:spPr>
          <a:xfrm>
            <a:off x="6378480" y="4606920"/>
            <a:ext cx="90720" cy="88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277"/>
          <p:cNvSpPr/>
          <p:nvPr/>
        </p:nvSpPr>
        <p:spPr>
          <a:xfrm>
            <a:off x="7499520" y="4251240"/>
            <a:ext cx="6660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278"/>
          <p:cNvSpPr/>
          <p:nvPr/>
        </p:nvSpPr>
        <p:spPr>
          <a:xfrm>
            <a:off x="6400800" y="4721400"/>
            <a:ext cx="46080" cy="1028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279"/>
          <p:cNvSpPr/>
          <p:nvPr/>
        </p:nvSpPr>
        <p:spPr>
          <a:xfrm>
            <a:off x="7475400" y="4411800"/>
            <a:ext cx="68400" cy="1377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280"/>
          <p:cNvSpPr/>
          <p:nvPr/>
        </p:nvSpPr>
        <p:spPr>
          <a:xfrm>
            <a:off x="6194520" y="4257720"/>
            <a:ext cx="136440" cy="22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281"/>
          <p:cNvSpPr/>
          <p:nvPr/>
        </p:nvSpPr>
        <p:spPr>
          <a:xfrm>
            <a:off x="6423120" y="4332240"/>
            <a:ext cx="34920" cy="90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282"/>
          <p:cNvSpPr/>
          <p:nvPr/>
        </p:nvSpPr>
        <p:spPr>
          <a:xfrm>
            <a:off x="6492960" y="4057560"/>
            <a:ext cx="18900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283"/>
          <p:cNvSpPr/>
          <p:nvPr/>
        </p:nvSpPr>
        <p:spPr>
          <a:xfrm>
            <a:off x="7616880" y="3921120"/>
            <a:ext cx="17784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284"/>
          <p:cNvSpPr/>
          <p:nvPr/>
        </p:nvSpPr>
        <p:spPr>
          <a:xfrm>
            <a:off x="7840800" y="4068720"/>
            <a:ext cx="8100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285"/>
          <p:cNvSpPr/>
          <p:nvPr/>
        </p:nvSpPr>
        <p:spPr>
          <a:xfrm>
            <a:off x="7840800" y="3807000"/>
            <a:ext cx="20628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286"/>
          <p:cNvSpPr/>
          <p:nvPr/>
        </p:nvSpPr>
        <p:spPr>
          <a:xfrm>
            <a:off x="7932600" y="3851280"/>
            <a:ext cx="262080" cy="14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287"/>
          <p:cNvSpPr/>
          <p:nvPr/>
        </p:nvSpPr>
        <p:spPr>
          <a:xfrm>
            <a:off x="5908680" y="4046400"/>
            <a:ext cx="2538360" cy="1005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Your assignment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18-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2-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8:17:18Z</dcterms:created>
  <dc:creator>nuhs</dc:creator>
  <dc:description/>
  <dc:language>en-US</dc:language>
  <cp:lastModifiedBy>Ameena</cp:lastModifiedBy>
  <dcterms:modified xsi:type="dcterms:W3CDTF">2008-09-24T20:14:30Z</dcterms:modified>
  <cp:revision>7</cp:revision>
  <dc:subject/>
  <dc:title>2.3: Linear Equations</dc:title>
</cp:coreProperties>
</file>